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2680F-65E2-4379-AFEC-41E663B48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E9AAB-0BB7-47DD-8CAE-878129B4D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BA3E6-C68A-40D2-8EFC-48EE148F0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68BD5-816B-4E16-8DE4-6158860AE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FB6EF-84B4-4E54-BD90-7184976CD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1BA2E-1AED-443A-8891-1E8ECCBE0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3F4F1-E015-4117-B1A3-FAACD2328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20856-B5E3-42C6-B3E7-EA9299668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3E37F-AB28-4F30-988C-3DE5E9FEA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8C198-8AEA-442C-9922-973F7D16E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C2166-E9FE-4379-A33E-FBF784017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BB635-8C04-4CB7-BA44-564D8DD6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5C05-35EC-478F-9788-B4100FE28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47318-371B-4FB5-AC98-70C3050F5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11B91-C914-4662-A925-6A5F25270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869DA-182B-4EEB-94C7-946E888AF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A5DB7-E06B-4138-B038-F6D15E8E1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4337-3C68-4FDD-88CA-9841DAC9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A17C3-621F-4C40-A546-59A521207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54529-FC56-461D-AABD-3ADCC750C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D8DD5-B60D-465F-862D-235313CBA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FD8E-BC45-4282-9BD0-02A1B5E78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71F3-CC6F-43BF-9438-30C3374C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D5D5-B042-45F2-97B5-DC975EF8A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9BCB-9683-49DD-8B86-8CB9455E16B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B9E6-F60B-4271-8E05-5EB681D29B3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at Grants</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grants were usually funds per pupil, funds per teacher, or percentage gra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d as a form of relief to local taxpayers, with no real intent of providing equaliz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alization Principl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dually states move to equalizing grants and to the equalization principle in supporting local distr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ayer-Haig and Updegraff and Mort equalization principles of distributing stae funds to local districts began to be used in the second quarter of the twentieth centu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estions Raised in Current School Finance</a:t>
            </a:r>
            <a:endParaRPr b="1" lang="en-US" sz="32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t cases have not solved the problem of providing equal financial opportunity for all children within a state; they have simply opened the door for debate and reform.</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irection should states now take in financing their educational programs in the light of limitations on property taxes as a source of locally    provided revenue for schools?</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can other taxes be used to replace or reduce property taxes with control of education still kept at the local level?</a:t>
            </a: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tates continue to use obsolete and unfair educational finance practices in spite of the relationship between equal protection and equalization in school fin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practices are still being challenged in state cour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ty</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ity in school finance refers to fairness in the expenditures per pupil and fairness in the treatment of taxpayers.  </a:t>
            </a:r>
            <a:r>
              <a:rPr b="0" i="1" lang="en-US" sz="2800" spc="-1" strike="noStrike">
                <a:solidFill>
                  <a:srgbClr val="003366"/>
                </a:solidFill>
                <a:latin typeface="Arial"/>
              </a:rPr>
              <a:t>Equity</a:t>
            </a:r>
            <a:r>
              <a:rPr b="0" lang="en-US" sz="2800" spc="-1" strike="noStrike">
                <a:solidFill>
                  <a:srgbClr val="003366"/>
                </a:solidFill>
                <a:latin typeface="Arial"/>
              </a:rPr>
              <a:t> and </a:t>
            </a:r>
            <a:r>
              <a:rPr b="0" i="1" lang="en-US" sz="2800" spc="-1" strike="noStrike">
                <a:solidFill>
                  <a:srgbClr val="003366"/>
                </a:solidFill>
                <a:latin typeface="Arial"/>
              </a:rPr>
              <a:t>equality</a:t>
            </a:r>
            <a:r>
              <a:rPr b="0" lang="en-US" sz="2800" spc="-1" strike="noStrike">
                <a:solidFill>
                  <a:srgbClr val="003366"/>
                </a:solidFill>
                <a:latin typeface="Arial"/>
              </a:rPr>
              <a:t> are often used synonymously but do not mean the sam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irness is more important in financing education than evenness or sameness, because students have wide differences in their abilities, needs, and educational desi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Finance Reform</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ool finance reform emphasizes equity iof educational input; it is impossible to measure accurately equity of out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 Wealth</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though property taxes are usually paid at the same tax rate in a given district, they are not always equitable, because of different rates of assessment as compared to market values, different degrees ownership of the property being taxed, and differences in the income or the wealth of taxpayers – even though their property taxes may be relatively simila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me and wealth have some advantages over property assessments in formulas for determining the fiscal capacity of school distric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 Wealth</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much easier to treat equals equally-the horizontal component of equity-than to treat unequals unequally-the vertical component of equity.  No one has determined exactly how unequally those with unequal needs or abilities should be trea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cost of education varies with the abilities and the needs of students, the use of weighting factors adds some measure of fairness to finance formul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 Wealth</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there are numerous weighing factors in use, those for disadvantaged children, small classes, vocational, and other high-cost programs, and those for the early years of elementary education are the most widesprea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assessed valuation of property per pupil is more equitable than assessed valuation of property per capita for the operation of school finance programs.  Wealth and income are gaining some support as bases for determining fiscal capac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School Level</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area anticipating that equity issues at the local level may relate to accountability.  The complexity to comparing one state to another is difficult because data of this nature are not required of local districts.  It is important for administrators to monitor the budget figur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ess mandated, there appears to be limited interest in collecting and providing local-level finance inform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es</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es are classified in three general types:</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90720" indent="-53352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ortional – the same percentage of income spent for taxes at all levels of income.</a:t>
            </a:r>
            <a:endParaRPr b="0" lang="en-US" sz="1800" spc="-1" strike="noStrike">
              <a:solidFill>
                <a:srgbClr val="003366"/>
              </a:solidFill>
              <a:latin typeface="Arial"/>
            </a:endParaRPr>
          </a:p>
          <a:p>
            <a:pPr lvl="1" marL="990720" indent="-53352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gressive – higher percent of income for taxes for high levels of income.</a:t>
            </a:r>
            <a:endParaRPr b="0" lang="en-US" sz="1800" spc="-1" strike="noStrike">
              <a:solidFill>
                <a:srgbClr val="003366"/>
              </a:solidFill>
              <a:latin typeface="Arial"/>
            </a:endParaRPr>
          </a:p>
          <a:p>
            <a:pPr lvl="1" marL="990720" indent="-53352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ressive – lower percent of income for taxes for higher incomes</a:t>
            </a:r>
            <a:endParaRPr b="0" lang="en-US" sz="18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t is generally agreed that reasonable progressive</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axes are the most equitable and regressive taxes</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least equitable.</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District Funding</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district funding was the first of all school finance 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cause of the extreme differences in the size and wealth of local districts, local financing proved to be a very unfair and discriminatory method of financing edu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3:56:46Z</dcterms:created>
  <dc:creator>Cynthia Altemueller</dc:creator>
  <dc:description/>
  <dc:language>en-US</dc:language>
  <cp:lastModifiedBy>AEURY</cp:lastModifiedBy>
  <dcterms:modified xsi:type="dcterms:W3CDTF">2006-01-27T22:12:06Z</dcterms:modified>
  <cp:revision>4</cp:revision>
  <dc:subject/>
  <dc:title>Finance in Education</dc:title>
</cp:coreProperties>
</file>